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FF10-420D-414C-8D71-52647EB56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4106-CA32-464B-B72B-434794347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3938-F619-4FAE-8025-31D180118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2F00-55AA-4CAC-BB3C-B48E689AE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7F17-D232-4827-8DD0-CB3380A27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5C79-98AD-4A88-9089-248914D57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DEBA-6047-4B25-8C30-FA42BBFEB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8F0B-68A6-42D9-9FAA-81560EE64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A49B-E6EE-4736-83DA-D9000DC29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CF37-0D62-4C06-BDFA-2529898D6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7AFB-A027-400F-979F-501924445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C5BA-65AF-4B41-8471-50DB358EC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9930D-E1DC-4E6F-B08D-E68AE29C3A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GLAN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ANNA BRY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SSICA PETR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p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Landma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F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This is Lond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Wea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F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ndma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Many famous Landmark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Stonehe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Windsor Cas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Hadrians W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Cambridge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he White Cliffs of Do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Blackpool To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Buckingham Pa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he Palace of Westmin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ower Of Lond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he London E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St Pauls Cathed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ndmark Pi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1125360"/>
            <a:ext cx="1809720" cy="2716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240" y="3933720"/>
            <a:ext cx="185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ondon Ey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195640" y="1125360"/>
            <a:ext cx="2952720" cy="22957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268360" y="3645000"/>
            <a:ext cx="295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ckingham Pa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5651640" y="1484280"/>
            <a:ext cx="2514600" cy="18874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796000" y="335772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nehe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Lond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London is the Capital City of London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It holds many of englands most famous landmarks. Its also englands most famous tourrist attractio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The weather in England is usually really cold and rainy. It snows quite often and can get as low as 1 degree. Most people in england are found wearing jumpers or jackets and long pant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400" spc="-1" strike="noStrike">
                <a:solidFill>
                  <a:srgbClr val="000000"/>
                </a:solidFill>
                <a:latin typeface="Arial"/>
              </a:rPr>
              <a:t>Englands food is mainly just the same as australia’s except the often don’t have BBQ’s!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nkyou for re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anna and j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6T04:34:08Z</dcterms:created>
  <dc:creator>Admin</dc:creator>
  <dc:description/>
  <dc:language>en-US</dc:language>
  <cp:lastModifiedBy>Admin</cp:lastModifiedBy>
  <dcterms:modified xsi:type="dcterms:W3CDTF">2009-05-26T05:07:27Z</dcterms:modified>
  <cp:revision>3</cp:revision>
  <dc:subject/>
  <dc:title>ENGLAND </dc:title>
</cp:coreProperties>
</file>